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004-E15E-4219-A4B1-98FA3EEF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09320" y="353484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BBE-97BE-4DFD-AFBB-0C5FCB67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628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7F94-34F6-48C0-B1A4-E1236921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5104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240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0932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5104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240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C21-888E-4CF4-B668-C9BF09F7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21EE-9662-4F4E-9FF8-58861DE3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0893-9A5C-4C36-8AA1-27A2872F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A710-1DB4-412B-A8C3-588893B2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1659-DF35-49EF-99FA-0C8075A6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C031-6190-4BB9-854D-7442859C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8A0C-1808-4525-A2E2-A2C512FC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DA75-186C-4E9C-92B6-BD4FC62A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B621-0493-4DBF-AED6-5BB50CDD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0628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C839-0CE3-407F-A9F4-A63C1AC3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CD97-287B-4D07-A60C-84605586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09320" y="353484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7A79-04CB-4D20-8B22-C8449AE7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0628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3E80-1A2C-4FE2-9442-8A1C6487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5104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9240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0932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5104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9240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49FF-1F7C-469F-A0F4-361DA3C1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2A1-167B-42EF-910A-B2E597A9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551-E6FC-44D5-8C68-71A95886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5213-B8BA-44CD-B13A-8AA766EB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A1F2-4E70-49F0-A94C-23132EF0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5BC-B0E0-4C0D-BF2A-653D5104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628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523B-9D9D-4A55-A452-4619DE3D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AE1F-286F-4A3C-B7FB-2DACD841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FBB4-4E3E-495E-ADE4-A2B923623E7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720" y="2438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Impact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2C75-9FDE-4485-AFCD-1F8E1CFB980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5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66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66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76720" y="2438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Basic Shape Patterns</a:t>
            </a: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85840" y="3580920"/>
            <a:ext cx="5257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Pentagon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1981080"/>
            <a:ext cx="3200400" cy="3429000"/>
          </a:xfrm>
          <a:prstGeom prst="pentagon">
            <a:avLst/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Hexagon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1981080"/>
            <a:ext cx="3352680" cy="35053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Octagon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1752480"/>
            <a:ext cx="3124440" cy="3733920"/>
          </a:xfrm>
          <a:prstGeom prst="octagon">
            <a:avLst>
              <a:gd name="adj" fmla="val 29287"/>
            </a:avLst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Rhombus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1676520"/>
            <a:ext cx="2286000" cy="3809880"/>
          </a:xfrm>
          <a:prstGeom prst="diamond">
            <a:avLst/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3- D Shapes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Cube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523880"/>
            <a:ext cx="3352680" cy="3353040"/>
          </a:xfrm>
          <a:prstGeom prst="cube">
            <a:avLst>
              <a:gd name="adj" fmla="val 25000"/>
            </a:avLst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Cylinder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133720"/>
            <a:ext cx="2514600" cy="3657600"/>
          </a:xfrm>
          <a:prstGeom prst="can">
            <a:avLst>
              <a:gd name="adj" fmla="val 25000"/>
            </a:avLst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Cone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909880" y="1693800"/>
          <a:ext cx="3324240" cy="34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09880" y="1693800"/>
                    <a:ext cx="332424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Pyramid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1981080"/>
            <a:ext cx="3429000" cy="3276720"/>
          </a:xfrm>
          <a:prstGeom prst="triangle">
            <a:avLst>
              <a:gd name="adj" fmla="val 50000"/>
            </a:avLst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Rectangle Solid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2286000"/>
            <a:ext cx="4572000" cy="2666880"/>
          </a:xfrm>
          <a:prstGeom prst="rect">
            <a:avLst/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Circle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1447920"/>
            <a:ext cx="3886200" cy="3886200"/>
          </a:xfrm>
          <a:prstGeom prst="ellipse">
            <a:avLst/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Oval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2514600"/>
            <a:ext cx="4800600" cy="2895480"/>
          </a:xfrm>
          <a:prstGeom prst="ellipse">
            <a:avLst/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Polygons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following shapes are all polygon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quare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1447920"/>
            <a:ext cx="4114800" cy="4114800"/>
          </a:xfrm>
          <a:prstGeom prst="rect">
            <a:avLst/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Rectangle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2133720"/>
            <a:ext cx="5486400" cy="3124080"/>
          </a:xfrm>
          <a:prstGeom prst="rect">
            <a:avLst/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Triangle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1219320"/>
            <a:ext cx="4419360" cy="3822480"/>
          </a:xfrm>
          <a:prstGeom prst="triangle">
            <a:avLst>
              <a:gd name="adj" fmla="val 50000"/>
            </a:avLst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1219320"/>
            <a:ext cx="228600" cy="2286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4800600"/>
            <a:ext cx="228600" cy="2286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4800600"/>
            <a:ext cx="228600" cy="2286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1295280"/>
            <a:ext cx="2438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909"/>
                </a:solidFill>
                <a:latin typeface="Times New Roman"/>
              </a:rPr>
              <a:t>Vertex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- a point at which two sides meet.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he yellow areas are </a:t>
            </a:r>
            <a:r>
              <a:rPr b="0" lang="en-US" sz="2400" spc="-1" strike="noStrike">
                <a:solidFill>
                  <a:srgbClr val="ef1909"/>
                </a:solidFill>
                <a:latin typeface="Times New Roman"/>
              </a:rPr>
              <a:t>vertices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Trapezoid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1905120"/>
            <a:ext cx="2971800" cy="3504960"/>
          </a:xfrm>
          <a:custGeom>
            <a:avLst/>
            <a:gdLst>
              <a:gd name="textAreaLeft" fmla="*/ 653400 w 2971800"/>
              <a:gd name="textAreaRight" fmla="*/ 2318400 w 2971800"/>
              <a:gd name="textAreaTop" fmla="*/ 770760 h 3504960"/>
              <a:gd name="textAreaBottom" fmla="*/ 273420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1240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 quadrilateral has one pair of parallel sides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2590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Parallelogram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2286000"/>
            <a:ext cx="3200400" cy="3048120"/>
          </a:xfrm>
          <a:prstGeom prst="parallelogram">
            <a:avLst>
              <a:gd name="adj" fmla="val 26249"/>
            </a:avLst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27432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5146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 quadrilateral that has two pairs of parallel sides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17:17:06Z</dcterms:created>
  <dc:creator>prussell</dc:creator>
  <dc:description/>
  <dc:language>en-US</dc:language>
  <cp:lastModifiedBy>Property of</cp:lastModifiedBy>
  <dcterms:modified xsi:type="dcterms:W3CDTF">2009-01-13T16:21:53Z</dcterms:modified>
  <cp:revision>13</cp:revision>
  <dc:subject/>
  <dc:title>Basic Shape Patterns</dc:title>
</cp:coreProperties>
</file>